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390A-3BDF-4B5E-8264-468951E03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AAFC-C446-4131-81D2-BBD24526F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347F-11DC-4DA5-8EFB-C1CD1409E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A246-BBE2-4CEC-87F3-C43354368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0BF2-DD1D-4C3A-BE14-E35D2AADA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8FB1-EC5C-4A24-BF9D-D39BC45E45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CA9CC-94E4-4797-918D-B8DE421606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0FF6-18F3-4D86-BDE2-A2F31AA734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1A34-2B07-4021-BAF9-267EA4AA5B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FE67-7B49-49AB-AFED-6028A340F6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B851-48C3-4C1A-92B8-6DDC010494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DB49-8C71-4CD7-9493-C1C5905617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757A-9703-4612-BBFA-08AF6253EA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203F-2AA0-4478-A5E2-A9279FA31D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671B-5767-4A44-BD63-2496CCF023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B85C-64E9-4E92-ACFA-13BF1AEC56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59B4-3512-4E5A-95E0-BC919D61B2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97FA-6F3C-4717-A41B-073EEC877C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9C9C-2EBF-481A-A5AF-3A8DD99E77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9D7B-3E81-4740-8513-A07D6DCBB8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8633-E9C2-4136-9A74-07301EC0416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0003D-0D35-4846-96F2-C0B5B650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80769-11E2-4A6D-88B2-C93180C6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EDA42-30B6-426E-90F0-82A54115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A07A-DD3A-4F3E-9774-8AB99863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7F768-85DE-46CB-B95F-FC0E2B9C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ABFDE-BBA7-4E5D-90B9-FF7BA689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6891A-8EAC-4527-B8DC-0DDC570B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B48C1-FEF1-4353-897D-383EF0BE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C48E7-0247-477D-9FDC-3B832D3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D907-6293-4341-9804-4C39672C43F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FBB49-0AF3-48CF-AE8E-9060EE6E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44D98-C692-4A7A-B0F5-E1C5AB7F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3ECB9-1A36-48F8-ACAD-EF452943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E8E9-ED44-487D-AD57-DFFE5FB50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7310-F201-4980-81DD-38C1379E4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CCD-2BF7-40F4-9FBC-E87827432C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8921-5535-430D-B8BE-5DC7BDF538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51EE-4C2D-43AA-8D25-795F3A1DB1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8920" y="1600200"/>
            <a:ext cx="208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entry points &amp; integration levels (Ma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60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6837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1T06:47:43Z</dcterms:modified>
  <cp:revision>21</cp:revision>
  <dc:subject/>
  <dc:title>Slide 1</dc:title>
</cp:coreProperties>
</file>